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204-6943-49AF-832B-17F4451A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947-0321-4797-8702-1F6A910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372-7A6B-4831-AEF1-CFA5E7DB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A49-15B1-4CB5-8AE1-DFBD20F8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AA19-406E-4BCE-BAF1-7AEF58E6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5196-A1C7-415D-8663-697DFEEA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2734-2497-414D-9091-DC4189E4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B7F2-4AB5-4DF6-A43F-D09B77FC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0350-CA60-46D8-8617-B42B88FB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D87B-E007-4CEF-8300-58A9946B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06E2-B7E4-44E2-A570-AEAA19F8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E9C-72CF-4629-B297-2A42D6C1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C32A-4E54-407A-8E4D-DD96273E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2767-7C40-4424-9215-C76FCB94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00C6-C3C1-465F-8767-75154BED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80D8-E744-40E7-9DF4-8E06BC9B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62F5-4F4B-44BF-BCF3-1A44E279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F69-DAF0-41A4-8DCE-125DF615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E1A-1BB6-4898-97B1-2A0E411E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FCA-ABF3-4B03-B12A-2BD2F23A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C03-36BB-43F1-B3D6-1ECD2347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4E0-1537-4898-8812-0825827F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9E2-4A31-4335-B060-DB972A73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0FA-5123-45A6-8C52-3542178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EA57-FAEB-408C-83D3-3F3F31D562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F610-A1E6-4516-926A-4DA46A0859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cottsboro Trial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stin 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nelle H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ople involve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 black teenager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white wo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SB_SB1A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53341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at Happene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1931(Still during the Great Depression), the 9 Black teenagers where looking for work in Northern Alabama on a freight train with two hobo white girls. The 9 black teenagers where arrested and sentenced to trials because they were accused of all raping the two white gir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scott_nine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Trial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rials where held in Scottsboro, Alabama. The  lasted 12 days. Thousands of people came from allover to watch the trials and to see the outco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77169_f520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3657600" cy="25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t Fai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of the teenagers where illiterate and most did not know how a court room setting operated. They were poorly defended and most of them didn’t even have time to contact friends or famil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jury was all composed of wh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were trials for something that all the boys didn’t 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leiboandhp" descr=""/>
          <p:cNvPicPr/>
          <p:nvPr/>
        </p:nvPicPr>
        <p:blipFill>
          <a:blip r:embed="rId1"/>
          <a:stretch/>
        </p:blipFill>
        <p:spPr>
          <a:xfrm>
            <a:off x="5867280" y="0"/>
            <a:ext cx="28958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Outco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rials where brought to supreme court. Most of the boys faced life sentences. But later four were releas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scotts06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23605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gal Lynching”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LD(international labor defense) called the trials thi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Scottsboro_AL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3017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nection to TKA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connected to TKAM because these trials took place during the Great Depression. It also is a trial where a black man is blamed for a crime that he did not d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20:50:49Z</dcterms:created>
  <dc:creator>Kathleen</dc:creator>
  <dc:description/>
  <dc:language>en-US</dc:language>
  <cp:lastModifiedBy>Kathleen</cp:lastModifiedBy>
  <dcterms:modified xsi:type="dcterms:W3CDTF">2009-03-31T21:24:38Z</dcterms:modified>
  <cp:revision>1</cp:revision>
  <dc:subject/>
  <dc:title>The Scottsboro Trials</dc:title>
</cp:coreProperties>
</file>